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BAE-1F62-49D8-992D-9CFDB500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45-6B4B-4868-8023-D4A514A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C2BD2-4749-41BE-9BEE-BC27A89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CDFC1-353E-4668-8EC8-918E0ADC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C59D7-D6A1-4B24-AF40-66180007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E4726-397C-4654-8F85-7363203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5448-CAF4-4B76-8862-83013F10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DC6E1-D2A4-4CA6-BD9B-65C8DE3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B08F3-6383-49FA-863B-56EE48F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71379-4A43-4B5A-899C-3867CAEF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492D9-312F-470F-AF70-0B06B5F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E188-6AD1-425F-8C85-13B4EDD9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4EC-500D-4212-B2EF-07EF7D0A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3AEB7-27C6-4A6B-9DEE-42196A3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E65E6-7E56-4E30-BB79-EC116FB7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CD9EB-56D8-4AAF-B772-AAA5C245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07217-2A51-45B0-9DFF-6D62C92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2ABA0-3DB2-402A-9439-2583374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A2BF-1589-46C1-A439-6633F43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EEFFC-EA62-466A-BB6E-92DB1AA1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D8F5E-49DE-46B0-9BD1-7F04E42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E31E-9D3E-4598-AE30-23FB0913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A5DD-6653-412C-92AC-DAE1D7F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571-834A-46BD-A83B-4B083EA9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5B164-48A3-45E0-852B-1EA76650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C95A-1C4B-4E7A-A880-3EE718D0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AFC1A-B11B-42E2-B142-7C236DB7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16C0C-7F1D-4A66-AC24-7AAC75D5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E549E-91BA-4504-89A5-717F1EC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799DA-E260-4674-B1BF-1D3CEAD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69D7-2A67-41DA-8048-8DC6DEA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D5FB-56D6-4DEC-BB74-55C2DF3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94EB0-407D-42AC-A99A-ECCD06EB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2EB8-E695-4B82-9221-E349451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204-D5FB-4834-8FFD-BCC3F39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CF3C-7FDB-401E-BD04-BE93727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3674-5986-4EC4-A23F-C1A82EBF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4A978-87C7-4926-9846-B07BAE01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C02A4-D7EE-47EB-A894-1C63654D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2CA3-3EF8-4426-B478-E0A284C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77F36-DA3A-4012-B891-0F3698B5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79B93-1AE4-48DA-A11F-54023AC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CB90D-BDC7-4E13-A448-3C34595C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8CB46-692F-42C9-B689-61341EF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81A4-1D1B-448B-8BE8-E56F703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077-2251-48A0-BF34-94EF5C3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4D65A-EE99-4865-A53A-B6CF086E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55C09-E097-4291-99CA-3CAF47C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6FB73-47D3-4644-98DF-D411E2C8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143AA-6BD4-4AED-98CC-CE970B02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1086E-0785-4145-AAB1-4CCFBFE7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7FE-D523-44FB-9D4E-4F038396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A51-4987-4A8C-BDDB-B4B82FB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65A-58BE-4DDC-B142-23FB422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2AE-0C51-4159-8187-21C00369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5F3-FE7F-45E0-A2BE-984520E6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E15-CCA0-4138-AA28-1360750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2679-EE41-4591-BFCC-0E3C7AF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A01-0AA1-4925-BE63-520A316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1A56-76C2-4AD9-8D39-9CB97D3D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92E-705A-43C0-8CDA-B6D8DB54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7B2B-20D6-48D0-A5AF-BCEF73D0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62C6-8ECF-4963-9814-4D183CC0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E261-F604-4104-8542-7D78DB5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10D9-6525-4B6F-B5AF-42A2B1E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0362-6B30-4561-A69C-BAF8278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8AF5-A9C6-4159-85C5-A9034CA8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DC5-CFDA-4AB1-893C-2FFF21DD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613D-A72F-4480-88BE-48558E0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60BF-8EC6-40A5-9A35-2848EDB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5947-692A-4510-BDAB-D5E2BCF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0B94-0688-4AB8-9A80-8BAC518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DB4A-5261-46EF-AE47-64B06ED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9446-47A7-4DD1-AF66-1AD2C887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F1EA-1806-4B72-B7E1-E41B9951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603F-F836-455F-BA79-C8D19021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9C52-315B-49EF-A8A5-E9F93B23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0127-277E-4BC0-A8D7-5B8F514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9C2-4FCB-486A-9AFB-22FFF947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BEE1-7D6F-4626-B197-A6FC282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7697-61B6-4FF5-BE7D-C98B67E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44FE-3EE7-4F73-A03A-E6F6388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497C-BEEA-4B77-B63B-E0185D0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61F2-EE44-47FE-AE03-D784756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0B36-C758-48AA-9B36-2FDF2FD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3E64-ED35-4688-8872-C963A86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8209-3880-4B17-91EA-577DE1A1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C6B4-E925-4F0D-BC13-090ED9B9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EFD8-3CCF-4636-8BE7-3D1729F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80B-5AD0-4D0B-88AB-10ABDC8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622D-F3F9-4A28-A206-0BF3120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26B0-C0AB-44F5-9278-57BC9BDA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B9CE-1078-43B9-A042-D934F88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7F93-6F48-43E9-92A8-0E85AD97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E18A-DDFB-48F2-A3F2-A137B02A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A5FE-F41B-4303-AFA3-E7B0E00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0660-C5CA-4348-8DBC-A7E1851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EC05-8B67-4011-B774-1C99868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0DE1-F2D8-4D92-BB49-817B402F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D32C-0717-498C-B776-4C85080B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082-0779-452F-9976-3EE26CE6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A88B-118C-47C0-B58F-ACB4C208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71AF-D273-4326-869F-9E091E8D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6BBCE-1CA5-451E-8630-8636F7B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4507-96B9-4C82-B7AC-91DCD93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F3F5-1329-420E-8EB6-DF0D82E7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905C4-5F1F-4D6F-A4AF-9A03D7A6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767A-97B5-4CFD-B72A-D6EFE96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1471-4064-4312-82E0-4D98947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D294-D906-422B-B8CA-25E0D68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CFD1-6D9E-4D67-AE10-EDC0F1B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F01-4EBB-45E8-BF08-614FF3E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490A-FAAF-4EB5-AD38-8B482AF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AED5-4EB2-405B-AA55-168F322E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969A-A0BD-4225-83EB-4553B166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C0626-8A1E-4991-9D56-98D1CE38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7A86-6BDB-4499-8DB2-BCB0EB5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0F3B-11EA-4519-8092-FE43C89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34C1-12D6-4D60-889E-17FC3FD7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2197-928D-43FB-AF5F-5449A6D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EAC13-3E73-46B8-A918-2ECBD53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634B7-4890-464D-B175-580B06C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7AC-E8AF-4657-8170-96F86F66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B1DF-7660-45A8-89BB-DD6F3E0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1A98-1A23-40D9-A5E8-4FBF951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52A2-0EF2-45F4-BCD0-EF6CAEF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3C7D-2B28-42DF-91F7-097FFC82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933D-39E2-47E4-A94B-56BEBE7D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8227-DC6C-4B14-96C1-5137BD2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7505-8606-4E9E-AADB-148BEA1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BDED-5BAB-494C-9637-25CCB6F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4E97-A15E-4136-8EF1-92040F97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C6ED-CA94-48D0-8B9B-75708503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64D-9078-4460-9695-3C30F66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F490-2EC0-451B-99F4-7B0EF06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7E19-FFB2-45DF-A81C-A22C66A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1CDF-6C87-44D6-BD79-899E22D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071F-1941-45E9-A125-0562CBC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1A8C-C1B0-4113-8C94-0E63E81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18CD-0338-4621-96D3-CFA94A53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3C8C3-6B46-4C98-8D85-F27AD7F0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54E3C-1887-4559-95DB-4C3FE723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2514-E53B-47F4-A974-C2FBB6DF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7BA6B-91C3-48C2-B3F4-BB51E594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0D3-3B7B-4F9C-B1F2-F39B3E8570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180-C401-46A4-816A-91A1BAF462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663-00C3-4739-B913-A743DE1AFC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F78-A5BE-4FB4-B809-D0EBDE84401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C637-D787-4B4B-A021-C92D831282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44A7-A9A3-488B-902E-F3175A80F28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41E6-08BB-48C1-B559-8A283816A43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D81D-9D64-4CE4-9F2B-56A43F7CF8C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771-6AEA-43A0-977D-30DA2876B54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68A-F854-48A8-86FC-124FC2CB39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C6B-1993-4EA0-8155-D80EE6AFC8A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BDFB-DD59-43DD-A24F-0727502D12D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8 Len lístie m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nie vážny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žiali Spasite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málo si ma milov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álo pre mňa pracov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ím čas si vypĺňal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ístie m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rásny vzhľa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je však ovoc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 milosti čas zanedbá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márnotratne premrhá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v súdu deň mi dá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rád ťa má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chcem ti dať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lúž svojim blížnym ochot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o stálou láskou, nezišt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zasväť m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ovocie mi odovzdáš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3:31Z</dcterms:modified>
  <cp:revision>22</cp:revision>
  <dc:subject/>
  <dc:title>Je veľký náš Pán, on slávy je Kráľ Nech do všetkých strán  spev vrúcnych znie chvál.</dc:title>
</cp:coreProperties>
</file>